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7.jpeg" ContentType="image/jpeg"/>
  <Override PartName="/ppt/media/image15.gif" ContentType="image/gif"/>
  <Override PartName="/ppt/media/image3.jpeg" ContentType="image/jpeg"/>
  <Override PartName="/ppt/media/image14.wmf" ContentType="image/x-wmf"/>
  <Override PartName="/ppt/media/image1.jpeg" ContentType="image/jpeg"/>
  <Override PartName="/ppt/media/image2.wmf" ContentType="image/x-wmf"/>
  <Override PartName="/ppt/media/image4.jpeg" ContentType="image/jpeg"/>
  <Override PartName="/ppt/media/image13.gif" ContentType="image/gif"/>
  <Override PartName="/ppt/media/image1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536-F241-4B58-8EBC-779703E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2C9-D2B9-45F9-BE04-85DB9C0F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46E-8899-4436-8023-AFAD4F18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250-388A-4983-A3FF-E33EB12D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A423-924A-45F7-8396-8650721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4434-6148-4FD8-80A9-46011C5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33C-5AAA-4B90-855A-204CF80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95D-17B6-4AE7-8B28-A628782C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E93E-1A15-408C-BA41-1AE2298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E83A-9162-45C4-8C83-F3D98C5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0A3B-32E9-4BD5-B34C-2465198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101-1737-44DA-916F-73DB66A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186-DF20-42BA-96A5-68FF563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5B03-F186-4DC8-82BA-2B3B86C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60C-4E0F-41A2-8F6B-0536085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C7A-C1D5-422E-A3FA-A774B3AA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725-63AA-47E1-9782-BAF22E4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079-CE97-43F8-88BB-3538206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BFB-4117-49A0-9C3C-E56BF573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6BB-0CFF-4A7F-8EFD-D651018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EDB-673D-40A8-97E6-79BE33D4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9F3-006B-4139-8EE7-4864D0E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7E0-F8CB-4C95-A69A-DD1A3B4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FFF-D2BA-4DDE-A46B-A3B1DAC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57DF-2311-4068-8735-A3E2F73572F3}" type="slidenum">
              <a:rPr b="0" lang="nb-N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56D-F3E1-4C3F-93ED-7B4F283277CC}" type="slidenum">
              <a:rPr b="0" lang="nb-N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resolveuid/9d2f850c99a71df93addcc7802b2a173" TargetMode="External"/><Relationship Id="rId3" Type="http://schemas.openxmlformats.org/officeDocument/2006/relationships/hyperlink" Target="file:///resolveuid/b7bb4f4c0c167aac6f446011ac4a5c23" TargetMode="External"/><Relationship Id="rId4" Type="http://schemas.openxmlformats.org/officeDocument/2006/relationships/hyperlink" Target="file:///resolveuid/574e12dff9c8b06229460df0413e4801" TargetMode="External"/><Relationship Id="rId5" Type="http://schemas.openxmlformats.org/officeDocument/2006/relationships/hyperlink" Target="file:///resolveuid/da4a997146e811f70c4c662396b2b15c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2158920" cy="2016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Informasjons-infrastruktu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 rot="510600">
            <a:off x="971280" y="2492280"/>
            <a:ext cx="1719000" cy="1703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2017800" cy="1346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284720" y="4437000"/>
            <a:ext cx="187632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GårdsBruksN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4508640"/>
            <a:ext cx="1655640" cy="647640"/>
          </a:xfrm>
          <a:prstGeom prst="cloudCallout">
            <a:avLst>
              <a:gd name="adj1" fmla="val -24495"/>
              <a:gd name="adj2" fmla="val 73037"/>
            </a:avLst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ffffff"/>
                </a:solidFill>
                <a:latin typeface="Arial"/>
              </a:rPr>
              <a:t>dom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877080" y="4149720"/>
            <a:ext cx="1979640" cy="2519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6516720" y="1700280"/>
            <a:ext cx="2016000" cy="1906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55640" y="1989000"/>
            <a:ext cx="1152360" cy="432000"/>
          </a:xfrm>
          <a:prstGeom prst="wedgeEllipseCallout">
            <a:avLst>
              <a:gd name="adj1" fmla="val 55370"/>
              <a:gd name="adj2" fmla="val 135662"/>
            </a:avLst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ffff"/>
                </a:solidFill>
                <a:latin typeface="Arial"/>
              </a:rPr>
              <a:t>språ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3132000" y="2997360"/>
            <a:ext cx="936720" cy="3456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2771640" y="2924280"/>
            <a:ext cx="19335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33">
                    <a:alpha val="51000"/>
                  </a:srgbClr>
                </a:solidFill>
                <a:latin typeface="Arial Black"/>
              </a:rPr>
              <a:t>Slekt    Navn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33">
                  <a:alpha val="5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380360" y="4149720"/>
            <a:ext cx="10080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ighwa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77080" y="1700280"/>
            <a:ext cx="115092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971640" y="189000"/>
          <a:ext cx="7345440" cy="62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73454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18396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24000" y="6006240"/>
            <a:ext cx="8569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baseline="-30000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lang="nb-NO" sz="1800" spc="-1" strike="noStrike" baseline="-30000">
                <a:solidFill>
                  <a:srgbClr val="ffffff"/>
                </a:solidFill>
                <a:latin typeface="Arial"/>
              </a:rPr>
              <a:t>Fra www.oio.dk    af AndreasLang — Sidst opdateret 13/11 2006 18:4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26920" y="260280"/>
            <a:ext cx="7307280" cy="5857920"/>
            <a:chOff x="826920" y="260280"/>
            <a:chExt cx="7307280" cy="5857920"/>
          </a:xfrm>
        </p:grpSpPr>
        <p:pic>
          <p:nvPicPr>
            <p:cNvPr id="489" name="" descr="OIO EA Paraply - stor"/>
            <p:cNvPicPr/>
            <p:nvPr/>
          </p:nvPicPr>
          <p:blipFill>
            <a:blip r:embed="rId1"/>
            <a:stretch/>
          </p:blipFill>
          <p:spPr>
            <a:xfrm>
              <a:off x="942840" y="260280"/>
              <a:ext cx="719136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999040" y="3789000"/>
              <a:ext cx="19908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6800" y="3789000"/>
              <a:ext cx="121932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75440" y="103644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>
              <a:hlinkClick r:id="rId2"/>
            </p:cNvPr>
            <p:cNvSpPr/>
            <p:nvPr/>
          </p:nvSpPr>
          <p:spPr>
            <a:xfrm>
              <a:off x="4636800" y="1036440"/>
              <a:ext cx="106704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>
              <a:hlinkClick r:id="rId3"/>
            </p:cNvPr>
            <p:cNvSpPr/>
            <p:nvPr/>
          </p:nvSpPr>
          <p:spPr>
            <a:xfrm>
              <a:off x="2188800" y="2874600"/>
              <a:ext cx="19814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>
              <a:hlinkClick r:id="rId4"/>
            </p:cNvPr>
            <p:cNvSpPr/>
            <p:nvPr/>
          </p:nvSpPr>
          <p:spPr>
            <a:xfrm>
              <a:off x="826920" y="2865240"/>
              <a:ext cx="1209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>
              <a:hlinkClick r:id="rId5"/>
            </p:cNvPr>
            <p:cNvSpPr/>
            <p:nvPr/>
          </p:nvSpPr>
          <p:spPr>
            <a:xfrm>
              <a:off x="826920" y="1036440"/>
              <a:ext cx="3343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835280" y="-32670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ahoma"/>
              </a:rPr>
              <a:t>Hva karakteriserer en informasjonsinfrastruktur og MinSide</a:t>
            </a:r>
            <a:r>
              <a:rPr b="0" lang="nb-NO" sz="4000" spc="-1" strike="noStrike">
                <a:solidFill>
                  <a:srgbClr val="ffffff"/>
                </a:solidFill>
                <a:latin typeface="Tahoma"/>
              </a:rPr>
              <a:t> NÅ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Åpen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(ikke lukket)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Felles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for alle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(som den er ment for) </a:t>
            </a:r>
            <a:r>
              <a:rPr b="0" lang="nb-NO" sz="14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Deles av mange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Muliggjørende</a:t>
            </a:r>
            <a:r>
              <a:rPr b="1" lang="nb-NO" sz="20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(enabling)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Standardisert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– ofte lagdelt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-prøver  (SGK-NOSIP-NORÅS-KOARK-NOA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Lang levetid (evigvarende?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   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 Mulig-Mye inve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Sosio-teknisk </a:t>
            </a:r>
            <a:r>
              <a:rPr b="0" lang="nb-NO" sz="2000" spc="-1" strike="noStrike">
                <a:solidFill>
                  <a:srgbClr val="ff99ff"/>
                </a:solidFill>
                <a:latin typeface="Tahoma"/>
              </a:rPr>
              <a:t>og </a:t>
            </a: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heterogen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konstruksjon 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        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                »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Mange ulike typer komponenter, som f eks. utstyr, programvare,tjenester, standarder, arbeidsrutiner, kompetanse,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Integrert del av praksis og daglige arbeidsrutiner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-blir nok d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Kan normalt ikke konstrueres ”topp-down”,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må gradvis utvikles </a:t>
            </a:r>
            <a:r>
              <a:rPr b="0" lang="nb-NO" sz="14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Bygger på en </a:t>
            </a: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installert base</a:t>
            </a:r>
            <a:r>
              <a:rPr b="1" lang="nb-NO" sz="20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1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6381720"/>
            <a:ext cx="93250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FINF4001 Forelesning 17.10.06 </a:t>
            </a: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Arild Jansen , UiO  Kilder Hanseth (1995, 2000 2002), McGarthy (1996), Star og Ruhleder (19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Infrastru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773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Enabling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ccecff"/>
                </a:solidFill>
                <a:latin typeface="Arial"/>
              </a:rPr>
              <a:t>(design-u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3528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Shared</a:t>
            </a:r>
            <a:r>
              <a:rPr b="0" lang="nb-NO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ccecff"/>
                </a:solidFill>
                <a:latin typeface="Arial"/>
              </a:rPr>
              <a:t>(standardizied interfa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6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Openness</a:t>
            </a:r>
            <a:r>
              <a:rPr b="0" lang="nb-NO" sz="2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19280" y="2492280"/>
            <a:ext cx="1224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579640" y="2276640"/>
            <a:ext cx="12970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0360" y="2781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27280" y="3284640"/>
            <a:ext cx="3168720" cy="10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Hetrogeneity and complex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486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Socio-technical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86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Ecologies of  (sub)  infra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6583320"/>
            <a:ext cx="51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0b1bc"/>
                </a:solidFill>
                <a:latin typeface="Tahoma"/>
              </a:rPr>
              <a:t>INFO. fra Planet Internet ch.9,Ole Hanseth kompendium dri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627280" y="3860640"/>
            <a:ext cx="2879640" cy="2740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979280" y="4076640"/>
            <a:ext cx="863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08720" y="414972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324000" y="333360"/>
          <a:ext cx="84247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5580000" y="26370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M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832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5516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Folke r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551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Kommun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35640" y="5373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33cc"/>
                </a:solidFill>
                <a:latin typeface="Tahoma"/>
              </a:rPr>
              <a:t>NA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Låne K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720" y="5373720"/>
            <a:ext cx="8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SkatteD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43640" y="537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GA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cc"/>
                </a:solidFill>
                <a:latin typeface="Tahoma"/>
              </a:rPr>
              <a:t>Min Side har ”snart” lansert 23 tjeneste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Navn og adresse i folkeregister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øknad om skattekor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Flyttemeld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Navn og kontaktinformasjon for "min fastlege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ytte av fastleg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estille helsetrygdkor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estille serviceberegning for alderspensj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Mine kjøretøy inkl dato for siste periodiske kontroll og frist for neste kontrol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Oversikt over samlet gjeld, siste innbetaling, neste terminbeløp samt status       </a:t>
            </a: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for søknad om stipend og lån i Lånekass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øke om fastrente eller betalingsutsettelse hos Lånekass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tatus og registrert informasjon hos Aeta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Reservasjon mot direkte reklam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Informasjon om mine registrerte eiendomm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Tjenester fra enkelte kommu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39760" y="785880"/>
          <a:ext cx="866628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785880"/>
                    <a:ext cx="8666280" cy="5286240"/>
                  </a:xfrm>
                  <a:prstGeom prst="rect">
                    <a:avLst/>
                  </a:prstGeom>
                  <a:ln w="9360">
                    <a:solidFill>
                      <a:srgbClr val="5b5d6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255960" y="623736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 (redige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7640" y="2924280"/>
            <a:ext cx="71892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5a5c6c"/>
                </a:solidFill>
                <a:latin typeface="Tahoma"/>
              </a:rPr>
              <a:t>M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5a5c6c"/>
                </a:solidFill>
                <a:latin typeface="Tahoma"/>
              </a:rPr>
              <a:t>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771640" y="1341000"/>
            <a:ext cx="1944720" cy="129564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71640" y="4149720"/>
            <a:ext cx="1440000" cy="71928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076360" y="1268280"/>
            <a:ext cx="1582920" cy="151308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4221000"/>
            <a:ext cx="1873440" cy="64800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24000" y="260280"/>
          <a:ext cx="8820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8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55240" y="62373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539640" y="371520"/>
          <a:ext cx="8064720" cy="61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520"/>
                    <a:ext cx="8064720" cy="61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18396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814400" cy="1756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1257480" cy="1224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1501920" cy="1817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659640" y="2276640"/>
            <a:ext cx="1190520" cy="1019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211640" y="2852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620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66ff"/>
                </a:solidFill>
                <a:latin typeface="Tahoma"/>
              </a:rPr>
              <a:t>”</a:t>
            </a:r>
            <a:r>
              <a:rPr b="0" lang="nb-NO" sz="2400" spc="-1" strike="noStrike">
                <a:solidFill>
                  <a:srgbClr val="9966ff"/>
                </a:solidFill>
                <a:latin typeface="Tahoma"/>
              </a:rPr>
              <a:t>An infrastructure is an evolving shared, open and heterogeneous installed base”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16360" y="537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Gateway  </a:t>
            </a:r>
            <a:r>
              <a:rPr b="0" lang="nb-NO" sz="1400" spc="-1" strike="noStrike">
                <a:solidFill>
                  <a:srgbClr val="b0b1bc"/>
                </a:solidFill>
                <a:latin typeface="Tahoma"/>
              </a:rPr>
              <a:t>(Protokoll-konvert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Lock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105264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0b1bc"/>
                </a:solidFill>
                <a:latin typeface="Tahoma"/>
              </a:rPr>
              <a:t>fra Planet Internet ch.9, Ole Hanseth kompendium dri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492360" y="26028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" y="476280"/>
            <a:ext cx="2519280" cy="93672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1197000"/>
            <a:ext cx="2374920" cy="107964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2060640"/>
            <a:ext cx="1728720" cy="79200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51640" y="189000"/>
            <a:ext cx="2232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tle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ett inn time hos legen selv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Bekreftelse på mob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1280" y="6021360"/>
            <a:ext cx="223200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tortingskomit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32000" y="6210360"/>
            <a:ext cx="273708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27640" y="6093000"/>
            <a:ext cx="2160720" cy="50292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1341360"/>
            <a:ext cx="223200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lum Sk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Lekseplan for barna 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Direkte stemme på saker fra 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temmepolling for inf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5013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332000" y="5589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57340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84720" y="5877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64000" y="1628640"/>
            <a:ext cx="10792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32360" y="1916280"/>
            <a:ext cx="576360" cy="12952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valg p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iv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ider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2492280"/>
            <a:ext cx="503280" cy="505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1052640"/>
            <a:ext cx="503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476360" y="2708280"/>
            <a:ext cx="71280" cy="25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3500280"/>
            <a:ext cx="4824360" cy="122400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6633"/>
                </a:solidFill>
                <a:latin typeface="Arial"/>
              </a:rPr>
              <a:t>Min personlige Webside e-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Språkvalg Fastlegen.Snowboardforeningen. Dyreverngrup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HaslumSkole Studentforeningen Arbeidsløsegruppen Organisasjon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Utvalgte nyheter,Lånekassen. Trygdekontoret Studenweb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PlattfotforbundetStemmepolling, Saker til komiteer Stemmegiv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59640" y="2997360"/>
            <a:ext cx="2484360" cy="86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ast sakro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bestille time direkte i avtaleb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042920" y="2060280"/>
            <a:ext cx="21600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88000" y="4005360"/>
            <a:ext cx="2266920" cy="1079280"/>
          </a:xfrm>
          <a:prstGeom prst="ellipse">
            <a:avLst/>
          </a:prstGeom>
          <a:solidFill>
            <a:srgbClr val="b5bcac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FK Forvaltnigen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7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00720" y="4076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12000" y="3284640"/>
            <a:ext cx="73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516720" y="3429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924360" y="4941720"/>
            <a:ext cx="439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916000" y="141300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987640" y="1125360"/>
            <a:ext cx="504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771640" y="90792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003280" y="476280"/>
            <a:ext cx="7923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4932000" y="1125360"/>
            <a:ext cx="180036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932360" y="1341000"/>
            <a:ext cx="3168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1989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492360" y="198900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16360" y="1628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979280" y="2997360"/>
            <a:ext cx="1297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08720" y="3213000"/>
            <a:ext cx="3585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8:27:46Z</dcterms:created>
  <dc:creator>OEM</dc:creator>
  <dc:description/>
  <dc:language>en-US</dc:language>
  <cp:lastModifiedBy>OEM</cp:lastModifiedBy>
  <dcterms:modified xsi:type="dcterms:W3CDTF">2006-11-27T19:55:57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0946894</vt:r8>
  </property>
  <property fmtid="{D5CDD505-2E9C-101B-9397-08002B2CF9AE}" pid="3" name="_AuthorEmail">
    <vt:lpwstr>nina.catharina@c2i.net</vt:lpwstr>
  </property>
  <property fmtid="{D5CDD505-2E9C-101B-9397-08002B2CF9AE}" pid="4" name="_AuthorEmailDisplayName">
    <vt:lpwstr>ncv</vt:lpwstr>
  </property>
  <property fmtid="{D5CDD505-2E9C-101B-9397-08002B2CF9AE}" pid="5" name="_EmailSubject">
    <vt:lpwstr>oblig 3</vt:lpwstr>
  </property>
</Properties>
</file>