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17.jpeg" ContentType="image/jpeg"/>
  <Override PartName="/ppt/media/image15.gif" ContentType="image/gif"/>
  <Override PartName="/ppt/media/image3.jpeg" ContentType="image/jpeg"/>
  <Override PartName="/ppt/media/image14.wmf" ContentType="image/x-wmf"/>
  <Override PartName="/ppt/media/image1.jpeg" ContentType="image/jpeg"/>
  <Override PartName="/ppt/media/image2.wmf" ContentType="image/x-wmf"/>
  <Override PartName="/ppt/media/image4.jpeg" ContentType="image/jpeg"/>
  <Override PartName="/ppt/media/image13.gif" ContentType="image/gif"/>
  <Override PartName="/ppt/media/image16.png" ContentType="image/png"/>
  <Override PartName="/ppt/media/image11.png" ContentType="image/png"/>
  <Override PartName="/ppt/media/image10.png" ContentType="image/png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A88-2B0F-4382-A8A9-BA480905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1E9-E878-46F8-BEC2-21BD3C02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C95-B964-4B90-A3C0-B50DE1BA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222-97C1-45CD-B74A-ABC7D824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FF8C-144F-473C-8319-A5796B83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7A2D-3763-4403-839A-119AA8EE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D929-E190-49B7-9814-A4B48616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38D5-63D9-4313-8276-D60789AE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E0C4-60E5-48F9-8236-B3495792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DDFE-7629-4223-BBCA-270A9922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6DA6-51F6-4C23-958F-62A1298B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889-9E08-43B1-8160-C1275060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15AE-CD59-4BB4-814A-E3A8CAE4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1C6A-58DC-4E4D-8D09-0126C5FD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8724-DF91-464A-97E2-F93E47F3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3111-CC90-41D0-8AD0-B2A83BF6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8E14-BF72-4E0F-9403-B47747F9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611-E73A-4D4D-9E25-7A207390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0AB-D831-4847-A85F-99E7111A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EE1-8E21-40CB-ADB4-0220C14D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AAC-AF83-43D9-8EB8-E5DC8CBD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739-8C08-43A4-8A31-1F24B25B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8A9-0A7C-44C4-8C26-15BBF048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106-9490-4F90-8C9A-C3ECF9ED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94A9-7632-4204-A26F-765A4ECB808A}" type="slidenum">
              <a:rPr b="0" lang="nb-NO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3C06-C794-4C95-ABEE-381E473B49E6}" type="slidenum">
              <a:rPr b="0" lang="nb-NO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resolveuid/9d2f850c99a71df93addcc7802b2a173" TargetMode="External"/><Relationship Id="rId3" Type="http://schemas.openxmlformats.org/officeDocument/2006/relationships/hyperlink" Target="file:///resolveuid/b7bb4f4c0c167aac6f446011ac4a5c23" TargetMode="External"/><Relationship Id="rId4" Type="http://schemas.openxmlformats.org/officeDocument/2006/relationships/hyperlink" Target="file:///resolveuid/574e12dff9c8b06229460df0413e4801" TargetMode="External"/><Relationship Id="rId5" Type="http://schemas.openxmlformats.org/officeDocument/2006/relationships/hyperlink" Target="file:///resolveuid/da4a997146e811f70c4c662396b2b15c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284720" y="3933720"/>
            <a:ext cx="2158920" cy="20163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cc"/>
                </a:solidFill>
                <a:latin typeface="Tahoma"/>
              </a:rPr>
              <a:t>Informasjons-infrastruktu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 rot="510600">
            <a:off x="971280" y="2492280"/>
            <a:ext cx="1719000" cy="17035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0" y="4869000"/>
            <a:ext cx="2017800" cy="13460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284720" y="4437000"/>
            <a:ext cx="187632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33"/>
                </a:solidFill>
                <a:latin typeface="Arial"/>
              </a:rPr>
              <a:t>GårdsBruksNr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33"/>
              </a:solidFill>
              <a:latin typeface="Arial"/>
              <a:ea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5280" y="4508640"/>
            <a:ext cx="1655640" cy="647640"/>
          </a:xfrm>
          <a:prstGeom prst="cloudCallout">
            <a:avLst>
              <a:gd name="adj1" fmla="val -24495"/>
              <a:gd name="adj2" fmla="val 73037"/>
            </a:avLst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1800" spc="-1" strike="noStrike">
                <a:solidFill>
                  <a:srgbClr val="ffffff"/>
                </a:solidFill>
                <a:latin typeface="Arial"/>
              </a:rPr>
              <a:t>dome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6877080" y="4149720"/>
            <a:ext cx="1979640" cy="25192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6516720" y="1700280"/>
            <a:ext cx="2016000" cy="1906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55640" y="1989000"/>
            <a:ext cx="1152360" cy="432000"/>
          </a:xfrm>
          <a:prstGeom prst="wedgeEllipseCallout">
            <a:avLst>
              <a:gd name="adj1" fmla="val 55370"/>
              <a:gd name="adj2" fmla="val 135662"/>
            </a:avLst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ffff"/>
                </a:solidFill>
                <a:latin typeface="Arial"/>
              </a:rPr>
              <a:t>språ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>
            <a:off x="3132000" y="2997360"/>
            <a:ext cx="936720" cy="3456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2771640" y="2924280"/>
            <a:ext cx="193356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33">
                    <a:alpha val="51000"/>
                  </a:srgbClr>
                </a:solidFill>
                <a:latin typeface="Arial Black"/>
              </a:rPr>
              <a:t>Slekt    Navn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6633">
                  <a:alpha val="5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380360" y="4149720"/>
            <a:ext cx="100800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ighway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877080" y="1700280"/>
            <a:ext cx="1150920" cy="64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971640" y="189000"/>
          <a:ext cx="7345440" cy="62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9000"/>
                    <a:ext cx="7345440" cy="62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183960" y="649116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383b3"/>
                </a:solidFill>
                <a:latin typeface="Arial"/>
              </a:rPr>
              <a:t>Fra Da Vinci rapporten på dep.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324000" y="6006240"/>
            <a:ext cx="8569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 baseline="-30000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1800"/>
            </a:br>
            <a:r>
              <a:rPr b="0" lang="nb-NO" sz="1800" spc="-1" strike="noStrike" baseline="-30000">
                <a:solidFill>
                  <a:srgbClr val="ffffff"/>
                </a:solidFill>
                <a:latin typeface="Arial"/>
              </a:rPr>
              <a:t>Fra www.oio.dk    af AndreasLang — Sidst opdateret 13/11 2006 18:4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826920" y="260280"/>
            <a:ext cx="7307280" cy="5857920"/>
            <a:chOff x="826920" y="260280"/>
            <a:chExt cx="7307280" cy="5857920"/>
          </a:xfrm>
        </p:grpSpPr>
        <p:pic>
          <p:nvPicPr>
            <p:cNvPr id="489" name="" descr="OIO EA Paraply - stor"/>
            <p:cNvPicPr/>
            <p:nvPr/>
          </p:nvPicPr>
          <p:blipFill>
            <a:blip r:embed="rId1"/>
            <a:stretch/>
          </p:blipFill>
          <p:spPr>
            <a:xfrm>
              <a:off x="942840" y="260280"/>
              <a:ext cx="7191360" cy="58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5999040" y="3789000"/>
              <a:ext cx="199080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36800" y="3789000"/>
              <a:ext cx="1219320" cy="15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75440" y="1036440"/>
              <a:ext cx="914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>
              <a:hlinkClick r:id="rId2"/>
            </p:cNvPr>
            <p:cNvSpPr/>
            <p:nvPr/>
          </p:nvSpPr>
          <p:spPr>
            <a:xfrm>
              <a:off x="4636800" y="1036440"/>
              <a:ext cx="106704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>
              <a:hlinkClick r:id="rId3"/>
            </p:cNvPr>
            <p:cNvSpPr/>
            <p:nvPr/>
          </p:nvSpPr>
          <p:spPr>
            <a:xfrm>
              <a:off x="2188800" y="2874600"/>
              <a:ext cx="198144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>
              <a:hlinkClick r:id="rId4"/>
            </p:cNvPr>
            <p:cNvSpPr/>
            <p:nvPr/>
          </p:nvSpPr>
          <p:spPr>
            <a:xfrm>
              <a:off x="826920" y="2865240"/>
              <a:ext cx="1209600" cy="19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>
              <a:hlinkClick r:id="rId5"/>
            </p:cNvPr>
            <p:cNvSpPr/>
            <p:nvPr/>
          </p:nvSpPr>
          <p:spPr>
            <a:xfrm>
              <a:off x="826920" y="1036440"/>
              <a:ext cx="33433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835280" y="-3267000"/>
            <a:ext cx="655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ahoma"/>
              </a:rPr>
              <a:t>Hva karakteriserer en informasjonsinfrastruktur og MinSide</a:t>
            </a:r>
            <a:r>
              <a:rPr b="0" lang="nb-NO" sz="4000" spc="-1" strike="noStrike">
                <a:solidFill>
                  <a:srgbClr val="ffffff"/>
                </a:solidFill>
                <a:latin typeface="Tahoma"/>
              </a:rPr>
              <a:t> NÅ 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00ff"/>
                </a:solidFill>
                <a:latin typeface="Tahoma"/>
              </a:rPr>
              <a:t>Åpen</a:t>
            </a:r>
            <a:r>
              <a:rPr b="1" lang="nb-N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(ikke lukket)  </a:t>
            </a:r>
            <a:r>
              <a:rPr b="0" lang="nb-NO" sz="2000" spc="-1" strike="noStrike">
                <a:solidFill>
                  <a:srgbClr val="9966ff"/>
                </a:solidFill>
                <a:latin typeface="Tahoma"/>
              </a:rPr>
              <a:t>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00ff"/>
                </a:solidFill>
                <a:latin typeface="Tahoma"/>
              </a:rPr>
              <a:t>Felles</a:t>
            </a:r>
            <a:r>
              <a:rPr b="1" lang="nb-N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for alle </a:t>
            </a:r>
            <a:r>
              <a:rPr b="0" lang="nb-NO" sz="1400" spc="-1" strike="noStrike">
                <a:solidFill>
                  <a:srgbClr val="ffffff"/>
                </a:solidFill>
                <a:latin typeface="Tahoma"/>
              </a:rPr>
              <a:t>(som den er ment for) </a:t>
            </a:r>
            <a:r>
              <a:rPr b="0" lang="nb-NO" sz="1400" spc="-1" strike="noStrike">
                <a:solidFill>
                  <a:srgbClr val="9966ff"/>
                </a:solidFill>
                <a:latin typeface="Tahoma"/>
              </a:rPr>
              <a:t>J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Deles av mange </a:t>
            </a:r>
            <a:r>
              <a:rPr b="0" lang="nb-NO" sz="2000" spc="-1" strike="noStrike">
                <a:solidFill>
                  <a:srgbClr val="9966ff"/>
                </a:solidFill>
                <a:latin typeface="Tahoma"/>
              </a:rPr>
              <a:t>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00ff"/>
                </a:solidFill>
                <a:latin typeface="Tahoma"/>
              </a:rPr>
              <a:t>Muliggjørende</a:t>
            </a:r>
            <a:r>
              <a:rPr b="1" lang="nb-NO" sz="2000" spc="-1" strike="noStrike">
                <a:solidFill>
                  <a:srgbClr val="00ff99"/>
                </a:solidFill>
                <a:latin typeface="Tahoma"/>
              </a:rPr>
              <a:t> </a:t>
            </a: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(enabling) </a:t>
            </a:r>
            <a:r>
              <a:rPr b="0" lang="nb-NO" sz="2000" spc="-1" strike="noStrike">
                <a:solidFill>
                  <a:srgbClr val="9966ff"/>
                </a:solidFill>
                <a:latin typeface="Tahoma"/>
              </a:rPr>
              <a:t>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99ff"/>
                </a:solidFill>
                <a:latin typeface="Tahoma"/>
              </a:rPr>
              <a:t>Standardisert</a:t>
            </a:r>
            <a:r>
              <a:rPr b="1" lang="nb-N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– ofte lagdelt  </a:t>
            </a:r>
            <a:r>
              <a:rPr b="0" lang="nb-NO" sz="2000" spc="-1" strike="noStrike">
                <a:solidFill>
                  <a:srgbClr val="9966ff"/>
                </a:solidFill>
                <a:latin typeface="Tahoma"/>
              </a:rPr>
              <a:t>JA-prøver  (SGK-NOSIP-NORÅS-KOARK-NOAR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Lang levetid (evigvarende?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66ff"/>
                </a:solidFill>
                <a:latin typeface="Tahoma"/>
              </a:rPr>
              <a:t>     </a:t>
            </a:r>
            <a:r>
              <a:rPr b="0" lang="nb-NO" sz="2000" spc="-1" strike="noStrike">
                <a:solidFill>
                  <a:srgbClr val="9966ff"/>
                </a:solidFill>
                <a:latin typeface="Tahoma"/>
              </a:rPr>
              <a:t>JA Mulig-Mye invest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99ff"/>
                </a:solidFill>
                <a:latin typeface="Tahoma"/>
              </a:rPr>
              <a:t>Sosio-teknisk </a:t>
            </a:r>
            <a:r>
              <a:rPr b="0" lang="nb-NO" sz="2000" spc="-1" strike="noStrike">
                <a:solidFill>
                  <a:srgbClr val="ff99ff"/>
                </a:solidFill>
                <a:latin typeface="Tahoma"/>
              </a:rPr>
              <a:t>og </a:t>
            </a:r>
            <a:r>
              <a:rPr b="1" lang="nb-NO" sz="2000" spc="-1" strike="noStrike">
                <a:solidFill>
                  <a:srgbClr val="ff99ff"/>
                </a:solidFill>
                <a:latin typeface="Tahoma"/>
              </a:rPr>
              <a:t>heterogen</a:t>
            </a:r>
            <a:r>
              <a:rPr b="1" lang="nb-N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konstruksjon   </a:t>
            </a:r>
            <a:r>
              <a:rPr b="0" lang="nb-NO" sz="2000" spc="-1" strike="noStrike">
                <a:solidFill>
                  <a:srgbClr val="9966ff"/>
                </a:solidFill>
                <a:latin typeface="Tahoma"/>
              </a:rPr>
              <a:t>JA         </a:t>
            </a: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                » </a:t>
            </a:r>
            <a:r>
              <a:rPr b="0" lang="nb-NO" sz="1400" spc="-1" strike="noStrike">
                <a:solidFill>
                  <a:srgbClr val="ffffff"/>
                </a:solidFill>
                <a:latin typeface="Tahoma"/>
              </a:rPr>
              <a:t>Mange ulike typer komponenter, som f eks. utstyr, programvare,tjenester, standarder, arbeidsrutiner, kompetanse,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Integrert del av praksis og daglige arbeidsrutiner  </a:t>
            </a:r>
            <a:r>
              <a:rPr b="0" lang="nb-NO" sz="2000" spc="-1" strike="noStrike">
                <a:solidFill>
                  <a:srgbClr val="9966ff"/>
                </a:solidFill>
                <a:latin typeface="Tahoma"/>
              </a:rPr>
              <a:t>JA-blir nok d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Kan normalt ikke konstrueres ”topp-down”, </a:t>
            </a:r>
            <a:r>
              <a:rPr b="0" lang="nb-NO" sz="1400" spc="-1" strike="noStrike">
                <a:solidFill>
                  <a:srgbClr val="ffffff"/>
                </a:solidFill>
                <a:latin typeface="Tahoma"/>
              </a:rPr>
              <a:t>må gradvis utvikles </a:t>
            </a:r>
            <a:r>
              <a:rPr b="0" lang="nb-NO" sz="1400" spc="-1" strike="noStrike">
                <a:solidFill>
                  <a:srgbClr val="9966ff"/>
                </a:solidFill>
                <a:latin typeface="Tahoma"/>
              </a:rPr>
              <a:t>J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Tahoma"/>
              </a:rPr>
              <a:t>Bygger på en </a:t>
            </a:r>
            <a:r>
              <a:rPr b="1" lang="nb-NO" sz="2000" spc="-1" strike="noStrike">
                <a:solidFill>
                  <a:srgbClr val="ff99ff"/>
                </a:solidFill>
                <a:latin typeface="Tahoma"/>
              </a:rPr>
              <a:t>installert base</a:t>
            </a:r>
            <a:r>
              <a:rPr b="1" lang="nb-NO" sz="2000" spc="-1" strike="noStrike">
                <a:solidFill>
                  <a:srgbClr val="00ff99"/>
                </a:solidFill>
                <a:latin typeface="Tahoma"/>
              </a:rPr>
              <a:t> </a:t>
            </a:r>
            <a:r>
              <a:rPr b="1" lang="nb-NO" sz="2000" spc="-1" strike="noStrike">
                <a:solidFill>
                  <a:srgbClr val="9966ff"/>
                </a:solidFill>
                <a:latin typeface="Tahoma"/>
              </a:rPr>
              <a:t>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6381720"/>
            <a:ext cx="93250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ffffff"/>
                </a:solidFill>
                <a:latin typeface="Arial"/>
              </a:rPr>
              <a:t>FINF4001 Forelesning 17.10.06 </a:t>
            </a: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Arild Jansen , UiO  Kilder Hanseth (1995, 2000 2002), McGarthy (1996), Star og Ruhleder (1996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cc"/>
                </a:solidFill>
                <a:latin typeface="Tahoma"/>
              </a:rPr>
              <a:t>Infrastru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1773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ccff"/>
                </a:solidFill>
                <a:latin typeface="Arial"/>
              </a:rPr>
              <a:t>Enabling</a:t>
            </a: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ccecff"/>
                </a:solidFill>
                <a:latin typeface="Arial"/>
              </a:rPr>
              <a:t>(design-u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35280" y="1557360"/>
            <a:ext cx="20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ccff"/>
                </a:solidFill>
                <a:latin typeface="Arial"/>
              </a:rPr>
              <a:t>Shared</a:t>
            </a:r>
            <a:r>
              <a:rPr b="0" lang="nb-NO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ccecff"/>
                </a:solidFill>
                <a:latin typeface="Arial"/>
              </a:rPr>
              <a:t>(standardizied interfac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6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ccff"/>
                </a:solidFill>
                <a:latin typeface="Arial"/>
              </a:rPr>
              <a:t>Openness</a:t>
            </a:r>
            <a:r>
              <a:rPr b="0" lang="nb-NO" sz="20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19280" y="2492280"/>
            <a:ext cx="122400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5579640" y="2276640"/>
            <a:ext cx="129708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40360" y="2781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627280" y="3284640"/>
            <a:ext cx="3168720" cy="1081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Hetrogeneity and complex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4360" y="4869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Socio-technical 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4869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Ecologies of  (sub)  infrastruc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5280" y="6583320"/>
            <a:ext cx="51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b0b1bc"/>
                </a:solidFill>
                <a:latin typeface="Tahoma"/>
              </a:rPr>
              <a:t>INFO. fra Planet Internet ch.9,Ole Hanseth kompendium dri20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627280" y="3860640"/>
            <a:ext cx="2879640" cy="2740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 flipH="1">
            <a:off x="1979280" y="4076640"/>
            <a:ext cx="86364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08720" y="4149720"/>
            <a:ext cx="43164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324000" y="333360"/>
          <a:ext cx="842472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5580000" y="2637000"/>
            <a:ext cx="10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Tahoma"/>
              </a:rPr>
              <a:t>Mi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Tahoma"/>
              </a:rPr>
              <a:t>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8320" y="649116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383b3"/>
                </a:solidFill>
                <a:latin typeface="Arial"/>
              </a:rPr>
              <a:t>Fra Da Vinci rapporten på dep.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551664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Tahoma"/>
              </a:rPr>
              <a:t>Folke re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635280" y="5516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Tahoma"/>
              </a:rPr>
              <a:t>Kommun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35640" y="53737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33cc"/>
                </a:solidFill>
                <a:latin typeface="Tahoma"/>
              </a:rPr>
              <a:t>NA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40360" y="5589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Tahoma"/>
              </a:rPr>
              <a:t>Låne Kas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8720" y="5373720"/>
            <a:ext cx="86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Tahoma"/>
              </a:rPr>
              <a:t>SkatteD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43640" y="5373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Tahoma"/>
              </a:rPr>
              <a:t>GA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cc"/>
                </a:solidFill>
                <a:latin typeface="Tahoma"/>
              </a:rPr>
              <a:t>Min Side har ”snart” lansert 23 tjenester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Navn og adresse i folkeregistere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Søknad om skattekor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Flyttemeldin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Navn og kontaktinformasjon for "min fastlege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Bytte av fastleg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Bestille helsetrygdkor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Bestille serviceberegning for alderspensj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Mine kjøretøy inkl dato for siste periodiske kontroll og frist for neste kontrol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Oversikt over samlet gjeld, siste innbetaling, neste terminbeløp samt status       </a:t>
            </a: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for søknad om stipend og lån i Lånekasse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Søke om fastrente eller betalingsutsettelse hos Lånekasse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Status og registrert informasjon hos Aeta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Reservasjon mot direkte reklam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Informasjon om mine registrerte eiendomm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·   Tjenester fra enkelte kommu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239760" y="785880"/>
          <a:ext cx="866628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785880"/>
                    <a:ext cx="8666280" cy="5286240"/>
                  </a:xfrm>
                  <a:prstGeom prst="rect">
                    <a:avLst/>
                  </a:prstGeom>
                  <a:ln w="9360">
                    <a:solidFill>
                      <a:srgbClr val="5b5d6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255960" y="6237360"/>
            <a:ext cx="45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383b3"/>
                </a:solidFill>
                <a:latin typeface="Arial"/>
              </a:rPr>
              <a:t>Fra Da Vinci rapporten på dep.no (redige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427640" y="2924280"/>
            <a:ext cx="718920" cy="72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5a5c6c"/>
                </a:solidFill>
                <a:latin typeface="Tahoma"/>
              </a:rPr>
              <a:t>MI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5a5c6c"/>
                </a:solidFill>
                <a:latin typeface="Tahoma"/>
              </a:rPr>
              <a:t>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2771640" y="1341000"/>
            <a:ext cx="1944720" cy="1295640"/>
          </a:xfrm>
          <a:prstGeom prst="line">
            <a:avLst/>
          </a:prstGeom>
          <a:ln w="9360">
            <a:solidFill>
              <a:srgbClr val="5b5d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771640" y="4149720"/>
            <a:ext cx="1440000" cy="719280"/>
          </a:xfrm>
          <a:prstGeom prst="line">
            <a:avLst/>
          </a:prstGeom>
          <a:ln w="9360">
            <a:solidFill>
              <a:srgbClr val="5b5d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076360" y="1268280"/>
            <a:ext cx="1582920" cy="1513080"/>
          </a:xfrm>
          <a:prstGeom prst="line">
            <a:avLst/>
          </a:prstGeom>
          <a:ln w="9360">
            <a:solidFill>
              <a:srgbClr val="5b5d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03640" y="4221000"/>
            <a:ext cx="1873440" cy="648000"/>
          </a:xfrm>
          <a:prstGeom prst="line">
            <a:avLst/>
          </a:prstGeom>
          <a:ln w="9360">
            <a:solidFill>
              <a:srgbClr val="5b5d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324000" y="260280"/>
          <a:ext cx="882000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820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255240" y="623736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383b3"/>
                </a:solidFill>
                <a:latin typeface="Arial"/>
              </a:rPr>
              <a:t>Fra Da Vinci rapporten på dep.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539640" y="371520"/>
          <a:ext cx="8064720" cy="61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71520"/>
                    <a:ext cx="8064720" cy="61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183960" y="649116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383b3"/>
                </a:solidFill>
                <a:latin typeface="Arial"/>
              </a:rPr>
              <a:t>Fra Da Vinci rapporten på dep.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1814400" cy="1756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900000" y="2565360"/>
            <a:ext cx="1257480" cy="12240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6300720" y="4292640"/>
            <a:ext cx="1501920" cy="18176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6659640" y="2276640"/>
            <a:ext cx="1190520" cy="10191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4211640" y="285264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0920" y="62064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66ff"/>
                </a:solidFill>
                <a:latin typeface="Tahoma"/>
              </a:rPr>
              <a:t>”</a:t>
            </a:r>
            <a:r>
              <a:rPr b="0" lang="nb-NO" sz="2400" spc="-1" strike="noStrike">
                <a:solidFill>
                  <a:srgbClr val="9966ff"/>
                </a:solidFill>
                <a:latin typeface="Tahoma"/>
              </a:rPr>
              <a:t>An infrastructure is an evolving shared, open and heterogeneous installed base”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916360" y="5373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Gateway  </a:t>
            </a:r>
            <a:r>
              <a:rPr b="0" lang="nb-NO" sz="1400" spc="-1" strike="noStrike">
                <a:solidFill>
                  <a:srgbClr val="b0b1bc"/>
                </a:solidFill>
                <a:latin typeface="Tahoma"/>
              </a:rPr>
              <a:t>(Protokoll-konvert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80000" y="22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Tahoma"/>
              </a:rPr>
              <a:t>Lock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427640" y="105264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b0b1bc"/>
                </a:solidFill>
                <a:latin typeface="Tahoma"/>
              </a:rPr>
              <a:t>fra Planet Internet ch.9, Ole Hanseth kompendium dri20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492360" y="260280"/>
            <a:ext cx="1511280" cy="17287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tatsbor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ersonli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eller på n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4000" y="476280"/>
            <a:ext cx="2519280" cy="936720"/>
          </a:xfrm>
          <a:prstGeom prst="ellipse">
            <a:avLst/>
          </a:prstGeom>
          <a:solidFill>
            <a:srgbClr val="9383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nowboadfor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5640" y="1197000"/>
            <a:ext cx="2374920" cy="1079640"/>
          </a:xfrm>
          <a:prstGeom prst="ellipse">
            <a:avLst/>
          </a:prstGeom>
          <a:solidFill>
            <a:srgbClr val="9383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Dyreverngru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2060640"/>
            <a:ext cx="1728720" cy="792000"/>
          </a:xfrm>
          <a:prstGeom prst="ellipse">
            <a:avLst/>
          </a:prstGeom>
          <a:solidFill>
            <a:srgbClr val="9383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Arbeidslø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-for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651640" y="189000"/>
            <a:ext cx="2232000" cy="93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Fastleg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Sett inn time hos legen selv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Bekreftelse på mobi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1280" y="6021360"/>
            <a:ext cx="2232000" cy="50328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Stortin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Stortingskomite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32000" y="6210360"/>
            <a:ext cx="2737080" cy="64764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Fylkes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Fylkesmannstin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27640" y="6093000"/>
            <a:ext cx="2160720" cy="50292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Kommu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Formannskap Utva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59640" y="1341360"/>
            <a:ext cx="2232000" cy="100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Haslum Sk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Lekseplan for barna mi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Direkte stemme på saker fra web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Stemmepolling for info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5013360"/>
            <a:ext cx="7489800" cy="863640"/>
          </a:xfrm>
          <a:prstGeom prst="ellipse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SFK sender og mottar informasjon om forsla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Mottar både identifiserbar og anonym opunionsmåling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332000" y="5589720"/>
            <a:ext cx="7207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00720" y="5734080"/>
            <a:ext cx="115272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284720" y="587700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564000" y="1628640"/>
            <a:ext cx="1079280" cy="36036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elef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932360" y="1916280"/>
            <a:ext cx="576360" cy="1295280"/>
          </a:xfrm>
          <a:prstGeom prst="rect">
            <a:avLst/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valg p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div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sider</a:t>
            </a: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2492280"/>
            <a:ext cx="503280" cy="505080"/>
          </a:xfrm>
          <a:prstGeom prst="rect">
            <a:avLst/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39640" y="1052640"/>
            <a:ext cx="503280" cy="41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476360" y="2708280"/>
            <a:ext cx="71280" cy="252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92360" y="3500280"/>
            <a:ext cx="4824360" cy="122400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6633"/>
                </a:solidFill>
                <a:latin typeface="Arial"/>
              </a:rPr>
              <a:t>Min personlige Webside e-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5b5d6b"/>
                </a:solidFill>
                <a:latin typeface="Arial"/>
              </a:rPr>
              <a:t>Språkvalg Fastlegen.Snowboardforeningen. Dyreverngrup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5b5d6b"/>
                </a:solidFill>
                <a:latin typeface="Arial"/>
              </a:rPr>
              <a:t>HaslumSkole Studentforeningen Arbeidsløsegruppen Organisasjoner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5b5d6b"/>
                </a:solidFill>
                <a:latin typeface="Arial"/>
              </a:rPr>
              <a:t>Utvalgte nyheter,Lånekassen. Trygdekontoret Studenweb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5b5d6b"/>
                </a:solidFill>
                <a:latin typeface="Arial"/>
              </a:rPr>
              <a:t>PlattfotforbundetStemmepolling, Saker til komiteer Stemmegiv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659640" y="2997360"/>
            <a:ext cx="2484360" cy="86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Fast sakrok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5b5d6b"/>
                </a:solidFill>
                <a:latin typeface="Arial"/>
              </a:rPr>
              <a:t>bestille time direkte i avtalebo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1042920" y="2060280"/>
            <a:ext cx="216000" cy="33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88000" y="4005360"/>
            <a:ext cx="2266920" cy="1079280"/>
          </a:xfrm>
          <a:prstGeom prst="ellipse">
            <a:avLst/>
          </a:prstGeom>
          <a:solidFill>
            <a:srgbClr val="b5bcac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b5d6b"/>
                </a:solidFill>
                <a:latin typeface="Arial"/>
              </a:rPr>
              <a:t>SFK Forvaltnigen</a:t>
            </a: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995640" y="4724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300720" y="407664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812000" y="3284640"/>
            <a:ext cx="7308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516720" y="342900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3924360" y="4941720"/>
            <a:ext cx="4392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916000" y="1413000"/>
            <a:ext cx="64764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987640" y="1125360"/>
            <a:ext cx="50472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771640" y="907920"/>
            <a:ext cx="72072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003280" y="476280"/>
            <a:ext cx="79236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4932000" y="1125360"/>
            <a:ext cx="180036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4932360" y="1341000"/>
            <a:ext cx="316872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140360" y="198900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492360" y="198900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16360" y="1628640"/>
            <a:ext cx="216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979280" y="2997360"/>
            <a:ext cx="129708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508720" y="3213000"/>
            <a:ext cx="35856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8:27:46Z</dcterms:created>
  <dc:creator>OEM</dc:creator>
  <dc:description/>
  <dc:language>en-US</dc:language>
  <cp:lastModifiedBy>OEM</cp:lastModifiedBy>
  <dcterms:modified xsi:type="dcterms:W3CDTF">2006-11-27T19:55:57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0946894</vt:r8>
  </property>
  <property fmtid="{D5CDD505-2E9C-101B-9397-08002B2CF9AE}" pid="3" name="_AuthorEmail">
    <vt:lpwstr>nina.catharina@c2i.net</vt:lpwstr>
  </property>
  <property fmtid="{D5CDD505-2E9C-101B-9397-08002B2CF9AE}" pid="4" name="_AuthorEmailDisplayName">
    <vt:lpwstr>ncv</vt:lpwstr>
  </property>
  <property fmtid="{D5CDD505-2E9C-101B-9397-08002B2CF9AE}" pid="5" name="_EmailSubject">
    <vt:lpwstr>oblig 3</vt:lpwstr>
  </property>
</Properties>
</file>