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7B9F-FEFA-4541-A16E-13B17709C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8A8F-4D81-486B-B6A3-B4FD28704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12C9-49B4-4F3C-8957-F7593C8B4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B1B0-D13E-40FD-B4EC-6F71E35FA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CB0CC-B360-4311-8BA6-D1EBA5F6D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37D26-887F-41BD-AE7A-AFE5D78B6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A8C9E-F58E-4EB8-9F89-FD6AB690D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9C41F-BDFD-4AF3-86D8-5ED8B3561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1365C-ED88-48FA-8807-8B4A1C72F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B7727-A1C7-4166-A149-6AC5DB4F1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8363E-F092-42CC-9D26-4F8E76E45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42E7-B51E-4518-91FC-51D34EF8B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6ECEE-FAD1-4E84-955B-0CBD29571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952FE-E126-4746-A95D-34A34A916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87175-64E5-46B5-8E8C-AF694384D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44324-0019-4298-A859-8D9A4C602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6CBE9-F33B-4BE6-B0D8-AF8040184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9A65-9C27-460C-912B-08446A049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AB8B-E210-4391-8E4F-9FD1C890C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2BF2-380B-46F0-99E2-E4604CB19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137E-DEC4-4667-A0C4-7FBBBBD98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FABD-7BD1-4908-9D81-F4B3B5F5E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26C1-4C38-4C55-91FE-12AF59E69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2853-72A8-43AC-AA6D-F45CFE08E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8CBCA-58F3-4E0F-8F7A-48DF1E1A9FD5}" type="slidenum">
              <a:rPr b="0" lang="nb-NO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BE7D3-8A0C-4283-80B8-5AF246713D51}" type="slidenum">
              <a:rPr b="0" lang="nb-NO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4400" spc="-1" strike="noStrike">
                <a:solidFill>
                  <a:srgbClr val="feec94"/>
                </a:solidFill>
                <a:latin typeface="Times New Roman"/>
              </a:rPr>
              <a:t>Oppgave C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ffffff"/>
                </a:solidFill>
                <a:latin typeface="Times New Roman"/>
              </a:rPr>
              <a:t>Layou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ffffff"/>
                </a:solidFill>
                <a:latin typeface="Times New Roman"/>
              </a:rPr>
              <a:t>Funksjonalit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ffffff"/>
                </a:solidFill>
                <a:latin typeface="Times New Roman"/>
              </a:rPr>
              <a:t>Lesbarh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4400" spc="-1" strike="noStrike">
                <a:solidFill>
                  <a:srgbClr val="feec94"/>
                </a:solidFill>
                <a:latin typeface="Times New Roman"/>
              </a:rPr>
              <a:t>Oppgave D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ffffff"/>
                </a:solidFill>
                <a:latin typeface="Times New Roman"/>
              </a:rPr>
              <a:t>Tilgjengeligh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ffffff"/>
                </a:solidFill>
                <a:latin typeface="Times New Roman"/>
              </a:rPr>
              <a:t>Brukertilpasn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ffffff"/>
                </a:solidFill>
                <a:latin typeface="Times New Roman"/>
              </a:rPr>
              <a:t>Nyttig innhold av informasjon og tjenes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3635280" y="549360"/>
            <a:ext cx="1511280" cy="1728720"/>
          </a:xfrm>
          <a:prstGeom prst="ellipse">
            <a:avLst/>
          </a:prstGeom>
          <a:solidFill>
            <a:srgbClr val="99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ffffff"/>
                </a:solidFill>
                <a:latin typeface="Arial"/>
              </a:rPr>
              <a:t>Statsbor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ffffff"/>
                </a:solidFill>
                <a:latin typeface="Arial"/>
              </a:rPr>
              <a:t>personli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b-NO" sz="1800" spc="-1" strike="noStrike">
                <a:solidFill>
                  <a:srgbClr val="ffffff"/>
                </a:solidFill>
                <a:latin typeface="Arial"/>
              </a:rPr>
              <a:t>eller på net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012000" y="476280"/>
            <a:ext cx="2519280" cy="936720"/>
          </a:xfrm>
          <a:prstGeom prst="ellipse">
            <a:avLst/>
          </a:prstGeom>
          <a:solidFill>
            <a:srgbClr val="b76a0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ffffff"/>
                </a:solidFill>
                <a:latin typeface="Arial"/>
              </a:rPr>
              <a:t>Snowboadforening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68360" y="836640"/>
            <a:ext cx="2374920" cy="1297080"/>
          </a:xfrm>
          <a:prstGeom prst="ellipse">
            <a:avLst/>
          </a:prstGeom>
          <a:solidFill>
            <a:srgbClr val="b76a0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ffffff"/>
                </a:solidFill>
                <a:latin typeface="Arial"/>
              </a:rPr>
              <a:t>Dyreverngrupp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042920" y="2637000"/>
            <a:ext cx="1728720" cy="792000"/>
          </a:xfrm>
          <a:prstGeom prst="ellipse">
            <a:avLst/>
          </a:prstGeom>
          <a:solidFill>
            <a:srgbClr val="b76a0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ffffff"/>
                </a:solidFill>
                <a:latin typeface="Arial"/>
              </a:rPr>
              <a:t>Arbeidslø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ffffff"/>
                </a:solidFill>
                <a:latin typeface="Arial"/>
              </a:rPr>
              <a:t>-forening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50920" y="5734080"/>
            <a:ext cx="2881080" cy="574560"/>
          </a:xfrm>
          <a:prstGeom prst="rect">
            <a:avLst/>
          </a:prstGeom>
          <a:solidFill>
            <a:srgbClr val="b5bca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bb5f03"/>
                </a:solidFill>
                <a:latin typeface="Arial"/>
              </a:rPr>
              <a:t>Storting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bb5f03"/>
                </a:solidFill>
                <a:latin typeface="Arial"/>
              </a:rPr>
              <a:t>Regjering Komiteer Utval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48000" y="5734080"/>
            <a:ext cx="2736720" cy="647640"/>
          </a:xfrm>
          <a:prstGeom prst="rect">
            <a:avLst/>
          </a:prstGeom>
          <a:solidFill>
            <a:srgbClr val="b5bca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bb5f03"/>
                </a:solidFill>
                <a:latin typeface="Arial"/>
              </a:rPr>
              <a:t>Fylkesman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bb5f03"/>
                </a:solidFill>
                <a:latin typeface="Arial"/>
              </a:rPr>
              <a:t>Fylkesmannsting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372360" y="5734080"/>
            <a:ext cx="2160360" cy="503280"/>
          </a:xfrm>
          <a:prstGeom prst="rect">
            <a:avLst/>
          </a:prstGeom>
          <a:solidFill>
            <a:srgbClr val="b5bca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bb5f03"/>
                </a:solidFill>
                <a:latin typeface="Arial"/>
              </a:rPr>
              <a:t>Kommu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bb5f03"/>
                </a:solidFill>
                <a:latin typeface="Arial"/>
              </a:rPr>
              <a:t>Formannskap Utval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11280" y="4581360"/>
            <a:ext cx="7489800" cy="863640"/>
          </a:xfrm>
          <a:prstGeom prst="ellipse">
            <a:avLst/>
          </a:prstGeom>
          <a:solidFill>
            <a:srgbClr val="b5bca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bb5f03"/>
                </a:solidFill>
                <a:latin typeface="Arial"/>
              </a:rPr>
              <a:t>SFK sender og mottar informasjon om forsla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bb5f03"/>
                </a:solidFill>
                <a:latin typeface="Arial"/>
              </a:rPr>
              <a:t>Mottar både identifiserbar og anonym opunionsmåling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1979640" y="5373720"/>
            <a:ext cx="72072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372360" y="5300640"/>
            <a:ext cx="1152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284720" y="5445000"/>
            <a:ext cx="0" cy="289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635280" y="1989000"/>
            <a:ext cx="1440000" cy="433440"/>
          </a:xfrm>
          <a:prstGeom prst="rect">
            <a:avLst/>
          </a:prstGeom>
          <a:solidFill>
            <a:srgbClr val="99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ffffff"/>
                </a:solidFill>
                <a:latin typeface="Arial"/>
              </a:rPr>
              <a:t>Mobiltelef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3789360"/>
            <a:ext cx="1366920" cy="50328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ffffff"/>
                </a:solidFill>
                <a:latin typeface="Arial"/>
              </a:rPr>
              <a:t>Aviser o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ffffff"/>
                </a:solidFill>
                <a:latin typeface="Arial"/>
              </a:rPr>
              <a:t>web-avis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00720" y="3141720"/>
            <a:ext cx="1726920" cy="9367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ffffff"/>
                </a:solidFill>
                <a:latin typeface="Arial"/>
              </a:rPr>
              <a:t>TV-programme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ffffff"/>
                </a:solidFill>
                <a:latin typeface="Arial"/>
              </a:rPr>
              <a:t>og tekst-t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" y="1844640"/>
            <a:ext cx="358560" cy="2952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476360" y="3357720"/>
            <a:ext cx="71280" cy="151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651640" y="1916280"/>
            <a:ext cx="2232000" cy="1008000"/>
          </a:xfrm>
          <a:prstGeom prst="ellipse">
            <a:avLst/>
          </a:prstGeom>
          <a:solidFill>
            <a:srgbClr val="b76a0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ffffff"/>
                </a:solidFill>
                <a:latin typeface="Arial"/>
              </a:rPr>
              <a:t>Humanetisk forbu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7885080" y="1052640"/>
            <a:ext cx="574560" cy="3889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6877080" y="2852640"/>
            <a:ext cx="287280" cy="187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 flipV="1">
            <a:off x="2843280" y="1412640"/>
            <a:ext cx="1800000" cy="647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284720" y="1125000"/>
            <a:ext cx="1871640" cy="1008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0" y="1844640"/>
            <a:ext cx="129528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556000" y="1484280"/>
            <a:ext cx="1800000" cy="1368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2700360" y="4292640"/>
            <a:ext cx="71280" cy="288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 flipV="1">
            <a:off x="5651280" y="4076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348000" y="1773360"/>
            <a:ext cx="719280" cy="201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427640" y="1484280"/>
            <a:ext cx="431640" cy="1728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492360" y="260280"/>
            <a:ext cx="1511280" cy="1728720"/>
          </a:xfrm>
          <a:prstGeom prst="ellipse">
            <a:avLst/>
          </a:prstGeom>
          <a:solidFill>
            <a:srgbClr val="99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ffffff"/>
                </a:solidFill>
                <a:latin typeface="Arial"/>
              </a:rPr>
              <a:t>Statsbor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ffffff"/>
                </a:solidFill>
                <a:latin typeface="Arial"/>
              </a:rPr>
              <a:t>personli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b-NO" sz="1800" spc="-1" strike="noStrike">
                <a:solidFill>
                  <a:srgbClr val="ffffff"/>
                </a:solidFill>
                <a:latin typeface="Arial"/>
              </a:rPr>
              <a:t>eller på net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24000" y="476280"/>
            <a:ext cx="2519280" cy="936720"/>
          </a:xfrm>
          <a:prstGeom prst="ellipse">
            <a:avLst/>
          </a:prstGeom>
          <a:solidFill>
            <a:srgbClr val="b76a0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ffffff"/>
                </a:solidFill>
                <a:latin typeface="Arial"/>
              </a:rPr>
              <a:t>Snowboadforening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55640" y="1197000"/>
            <a:ext cx="2374920" cy="1079640"/>
          </a:xfrm>
          <a:prstGeom prst="ellipse">
            <a:avLst/>
          </a:prstGeom>
          <a:solidFill>
            <a:srgbClr val="b76a0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ffffff"/>
                </a:solidFill>
                <a:latin typeface="Arial"/>
              </a:rPr>
              <a:t>Dyreverngrupp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332000" y="2060640"/>
            <a:ext cx="1728720" cy="792000"/>
          </a:xfrm>
          <a:prstGeom prst="ellipse">
            <a:avLst/>
          </a:prstGeom>
          <a:solidFill>
            <a:srgbClr val="b76a0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ffffff"/>
                </a:solidFill>
                <a:latin typeface="Arial"/>
              </a:rPr>
              <a:t>Arbeidslø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ffffff"/>
                </a:solidFill>
                <a:latin typeface="Arial"/>
              </a:rPr>
              <a:t>-forening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651640" y="189000"/>
            <a:ext cx="2232000" cy="9349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ffffff"/>
                </a:solidFill>
                <a:latin typeface="Arial"/>
              </a:rPr>
              <a:t>Fastleg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000" spc="-1" strike="noStrike">
                <a:solidFill>
                  <a:srgbClr val="ffffff"/>
                </a:solidFill>
                <a:latin typeface="Arial"/>
              </a:rPr>
              <a:t>Sett inn time hos legen selv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000" spc="-1" strike="noStrike">
                <a:solidFill>
                  <a:srgbClr val="ffffff"/>
                </a:solidFill>
                <a:latin typeface="Arial"/>
              </a:rPr>
              <a:t>Bekreftelse på mobi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11280" y="6021360"/>
            <a:ext cx="2232000" cy="503280"/>
          </a:xfrm>
          <a:prstGeom prst="rect">
            <a:avLst/>
          </a:prstGeom>
          <a:solidFill>
            <a:srgbClr val="b5bca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bb5f03"/>
                </a:solidFill>
                <a:latin typeface="Arial"/>
              </a:rPr>
              <a:t>Storting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bb5f03"/>
                </a:solidFill>
                <a:latin typeface="Arial"/>
              </a:rPr>
              <a:t>Stortingskomite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132000" y="6210360"/>
            <a:ext cx="2737080" cy="647640"/>
          </a:xfrm>
          <a:prstGeom prst="rect">
            <a:avLst/>
          </a:prstGeom>
          <a:solidFill>
            <a:srgbClr val="b5bca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bb5f03"/>
                </a:solidFill>
                <a:latin typeface="Arial"/>
              </a:rPr>
              <a:t>Fylkesman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bb5f03"/>
                </a:solidFill>
                <a:latin typeface="Arial"/>
              </a:rPr>
              <a:t>Fylkesmannsting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227640" y="6093000"/>
            <a:ext cx="2160720" cy="502920"/>
          </a:xfrm>
          <a:prstGeom prst="rect">
            <a:avLst/>
          </a:prstGeom>
          <a:solidFill>
            <a:srgbClr val="b5bca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bb5f03"/>
                </a:solidFill>
                <a:latin typeface="Arial"/>
              </a:rPr>
              <a:t>Kommu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bb5f03"/>
                </a:solidFill>
                <a:latin typeface="Arial"/>
              </a:rPr>
              <a:t>Formannskap Utval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659640" y="1341360"/>
            <a:ext cx="2232000" cy="10080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ffffff"/>
                </a:solidFill>
                <a:latin typeface="Arial"/>
              </a:rPr>
              <a:t>Haslum Sko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000" spc="-1" strike="noStrike">
                <a:solidFill>
                  <a:srgbClr val="ffffff"/>
                </a:solidFill>
                <a:latin typeface="Arial"/>
              </a:rPr>
              <a:t>Lekseplan for barna min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000" spc="-1" strike="noStrike">
                <a:solidFill>
                  <a:srgbClr val="ffffff"/>
                </a:solidFill>
                <a:latin typeface="Arial"/>
              </a:rPr>
              <a:t>Direkte stemme på saker fra web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000" spc="-1" strike="noStrike">
                <a:solidFill>
                  <a:srgbClr val="ffffff"/>
                </a:solidFill>
                <a:latin typeface="Arial"/>
              </a:rPr>
              <a:t>Stemmepolling for info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84360" y="5013360"/>
            <a:ext cx="7489800" cy="863640"/>
          </a:xfrm>
          <a:prstGeom prst="ellipse">
            <a:avLst/>
          </a:prstGeom>
          <a:solidFill>
            <a:srgbClr val="b5bca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bb5f03"/>
                </a:solidFill>
                <a:latin typeface="Arial"/>
              </a:rPr>
              <a:t>SFK sender og mottar informasjon om forsla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bb5f03"/>
                </a:solidFill>
                <a:latin typeface="Arial"/>
              </a:rPr>
              <a:t>Mottar både identifiserbar og anonym opunionsmåling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1332000" y="5589720"/>
            <a:ext cx="72072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300720" y="5734080"/>
            <a:ext cx="115272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284720" y="5877000"/>
            <a:ext cx="0" cy="288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564000" y="1628640"/>
            <a:ext cx="1079280" cy="360360"/>
          </a:xfrm>
          <a:prstGeom prst="rect">
            <a:avLst/>
          </a:prstGeom>
          <a:solidFill>
            <a:srgbClr val="99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ffffff"/>
                </a:solidFill>
                <a:latin typeface="Arial"/>
              </a:rPr>
              <a:t>Telef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932360" y="1916280"/>
            <a:ext cx="576360" cy="129528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b-NO" sz="1400" spc="-1" strike="noStrike">
                <a:solidFill>
                  <a:srgbClr val="ffffff"/>
                </a:solidFill>
                <a:latin typeface="Arial"/>
              </a:rPr>
              <a:t>web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b-NO" sz="1400" spc="-1" strike="noStrike">
                <a:solidFill>
                  <a:srgbClr val="ffffff"/>
                </a:solidFill>
                <a:latin typeface="Arial"/>
              </a:rPr>
              <a:t>valg på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b-NO" sz="1400" spc="-1" strike="noStrike">
                <a:solidFill>
                  <a:srgbClr val="ffffff"/>
                </a:solidFill>
                <a:latin typeface="Arial"/>
              </a:rPr>
              <a:t>div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b-NO" sz="1400" spc="-1" strike="noStrike">
                <a:solidFill>
                  <a:srgbClr val="ffffff"/>
                </a:solidFill>
                <a:latin typeface="Arial"/>
              </a:rPr>
              <a:t>sider</a:t>
            </a:r>
            <a:r>
              <a:rPr b="0" lang="nb-NO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276720" y="2492280"/>
            <a:ext cx="503280" cy="50508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ffffff"/>
                </a:solidFill>
                <a:latin typeface="Arial"/>
              </a:rPr>
              <a:t>T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39640" y="1052640"/>
            <a:ext cx="503280" cy="4176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1476360" y="2708280"/>
            <a:ext cx="71280" cy="2521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692360" y="3500280"/>
            <a:ext cx="4824360" cy="1224000"/>
          </a:xfrm>
          <a:prstGeom prst="rect">
            <a:avLst/>
          </a:prstGeom>
          <a:solidFill>
            <a:srgbClr val="b5bca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996633"/>
                </a:solidFill>
                <a:latin typeface="Arial"/>
              </a:rPr>
              <a:t>Min personlige Webside e-po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bb5f03"/>
                </a:solidFill>
                <a:latin typeface="Arial"/>
              </a:rPr>
              <a:t>Språkvalg Fastlegen.Snowboardforeningen. Dyreverngruppe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bb5f03"/>
                </a:solidFill>
                <a:latin typeface="Arial"/>
              </a:rPr>
              <a:t>HaslumSkole Studentforeningen Arbeidsløsegruppen Organisasjoner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bb5f03"/>
                </a:solidFill>
                <a:latin typeface="Arial"/>
              </a:rPr>
              <a:t>Utvalgte nyheter,Lånekassen. Trygdekontoret Studenweb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bb5f03"/>
                </a:solidFill>
                <a:latin typeface="Arial"/>
              </a:rPr>
              <a:t>PlattfotforbundetStemmepolling, Saker til komiteer Stemmegivn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659640" y="2997360"/>
            <a:ext cx="2484360" cy="863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bb5f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bb5f03"/>
                </a:solidFill>
                <a:latin typeface="Arial"/>
              </a:rPr>
              <a:t>Fast sakrok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bb5f03"/>
                </a:solidFill>
                <a:latin typeface="Arial"/>
              </a:rPr>
              <a:t>bestille time direkte i avtalebo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 flipV="1">
            <a:off x="1042920" y="2060280"/>
            <a:ext cx="216000" cy="3313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588000" y="4005360"/>
            <a:ext cx="2266920" cy="1079280"/>
          </a:xfrm>
          <a:prstGeom prst="ellipse">
            <a:avLst/>
          </a:prstGeom>
          <a:solidFill>
            <a:srgbClr val="b5bcac"/>
          </a:solidFill>
          <a:ln w="9360">
            <a:solidFill>
              <a:srgbClr val="bb5f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bb5f03"/>
                </a:solidFill>
                <a:latin typeface="Arial"/>
              </a:rPr>
              <a:t>SFK Forvaltnigen</a:t>
            </a:r>
            <a:r>
              <a:rPr b="0" lang="nb-NO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995640" y="47242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300720" y="407664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812000" y="3284640"/>
            <a:ext cx="73080" cy="72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6516720" y="342900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3924360" y="4941720"/>
            <a:ext cx="4392720" cy="43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2916000" y="1413000"/>
            <a:ext cx="647640" cy="93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2987640" y="1125360"/>
            <a:ext cx="504720" cy="503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2771640" y="907920"/>
            <a:ext cx="720720" cy="73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5003280" y="476280"/>
            <a:ext cx="792360" cy="288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 flipV="1">
            <a:off x="4932000" y="1125360"/>
            <a:ext cx="1800360" cy="648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 flipV="1">
            <a:off x="4932360" y="1341000"/>
            <a:ext cx="3168720" cy="180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140360" y="1989000"/>
            <a:ext cx="0" cy="158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3492360" y="1989000"/>
            <a:ext cx="216000" cy="503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716360" y="1628640"/>
            <a:ext cx="216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1979280" y="2997360"/>
            <a:ext cx="1297080" cy="223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508720" y="3213000"/>
            <a:ext cx="358560" cy="194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468360" y="1628640"/>
          <a:ext cx="8207280" cy="50119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628640"/>
                    <a:ext cx="8207280" cy="501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17:58:32Z</dcterms:created>
  <dc:creator>Marius Lifvergren</dc:creator>
  <dc:description/>
  <dc:language>en-US</dc:language>
  <cp:lastModifiedBy>Marius Lifvergren</cp:lastModifiedBy>
  <dcterms:modified xsi:type="dcterms:W3CDTF">2006-09-24T20:09:24Z</dcterms:modified>
  <cp:revision>3</cp:revision>
  <dc:subject/>
  <dc:title>Oppgave C</dc:title>
</cp:coreProperties>
</file>