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B53-EF61-45FD-9553-2C6F1BE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1BE-960C-406D-A738-6BDCA58E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797-A8F1-4125-9445-39875DC4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AEC-BDC2-46B9-8828-B4336CF5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AE8-3248-4700-B40F-16053342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0C3E-35BF-4729-99D2-7358BDE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C8B5-36CA-4997-BA70-2F34A74E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7F53-9750-4402-98AA-3724222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0846-0977-435F-9751-7648E87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EBA-F5D4-433A-8B8E-3774B52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AC44-CDFE-4662-948F-2215608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739-1B1F-495E-8BD6-64B335B1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70E9-5EB3-4CAB-B015-BBFE2BE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545-904E-484F-BFC8-5523A80A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31AD-B2B6-4480-ACEE-4DAEE40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8DEC-5F20-4E6B-9103-19317687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C3C-261E-47B0-B33A-E220122B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15A-52D5-44EC-A826-85DA28F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CF7-57B9-4E54-A405-58F1BE1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4EC-6FC6-490C-BB94-ACAB56A0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342-6F7F-49EC-BF81-7AD22D6B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A4D-85F1-4711-AC12-976B313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BF1-C522-43EE-9716-D3F4385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8D1-D365-4510-A264-6C64EA1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F03B-7EB8-4C52-A879-BFF4581D6357}" type="slidenum"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C409-3976-4320-9C0E-2DB4834AE4F6}" type="slidenum"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eec94"/>
                </a:solidFill>
                <a:latin typeface="Times New Roman"/>
              </a:rPr>
              <a:t>Oppgave C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Funksjonalit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Lesbarh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eec94"/>
                </a:solidFill>
                <a:latin typeface="Times New Roman"/>
              </a:rPr>
              <a:t>Oppgave 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Tilgjengeligh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Brukertilpas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Nyttig innhold av informasjon og tjene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5280" y="54936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76280"/>
            <a:ext cx="2519280" cy="93672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36640"/>
            <a:ext cx="2374920" cy="129708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2637000"/>
            <a:ext cx="1728720" cy="792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734080"/>
            <a:ext cx="2881080" cy="57456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Regjering Komiteer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734080"/>
            <a:ext cx="273672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5734080"/>
            <a:ext cx="216036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581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79640" y="5373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5300640"/>
            <a:ext cx="1152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44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1989000"/>
            <a:ext cx="1440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obil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3789360"/>
            <a:ext cx="136692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viser 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eb-avi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3141720"/>
            <a:ext cx="172692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-programm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g tekst-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44640"/>
            <a:ext cx="35856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3357720"/>
            <a:ext cx="7128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16280"/>
            <a:ext cx="2232000" cy="1008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umanetisk forb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885080" y="1052640"/>
            <a:ext cx="574560" cy="38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77080" y="2852640"/>
            <a:ext cx="2872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843280" y="1412640"/>
            <a:ext cx="1800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84720" y="1125000"/>
            <a:ext cx="18716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844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56000" y="1484280"/>
            <a:ext cx="180000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00360" y="4292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651280" y="4076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48000" y="1773360"/>
            <a:ext cx="719280" cy="20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484280"/>
            <a:ext cx="4316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92360" y="26028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76280"/>
            <a:ext cx="2519280" cy="93672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1197000"/>
            <a:ext cx="2374920" cy="107964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2060640"/>
            <a:ext cx="1728720" cy="792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189000"/>
            <a:ext cx="2232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tle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ett inn time hos legen selv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Bekreftelse på mob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6021360"/>
            <a:ext cx="223200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skomit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6210360"/>
            <a:ext cx="273708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6093000"/>
            <a:ext cx="2160720" cy="50292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223200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lum Sk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Lekseplan for barna 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Direkte stemme på saker fra 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temmepolling for inf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013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332000" y="5589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00720" y="57340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5877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628640"/>
            <a:ext cx="10792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916280"/>
            <a:ext cx="576360" cy="1295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valg p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iv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ider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492280"/>
            <a:ext cx="503280" cy="5050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052640"/>
            <a:ext cx="503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76360" y="2708280"/>
            <a:ext cx="71280" cy="25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500280"/>
            <a:ext cx="4824360" cy="122400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6633"/>
                </a:solidFill>
                <a:latin typeface="Arial"/>
              </a:rPr>
              <a:t>Min personlige Webside e-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Språkvalg Fastlegen.Snowboardforeningen. Dyreverngrup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HaslumSkole Studentforeningen Arbeidsløsegruppen Organisasjon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Utvalgte nyheter,Lånekassen. Trygdekontoret Studenweb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PlattfotforbundetStemmepolling, Saker til komiteer Stemmegiv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997360"/>
            <a:ext cx="2484360" cy="86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ast sakro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bestille time direkte i avtaleb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042920" y="2060280"/>
            <a:ext cx="21600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4005360"/>
            <a:ext cx="2266920" cy="1079280"/>
          </a:xfrm>
          <a:prstGeom prst="ellipse">
            <a:avLst/>
          </a:prstGeom>
          <a:solidFill>
            <a:srgbClr val="b5bcac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Forvaltnigen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7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4076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12000" y="3284640"/>
            <a:ext cx="73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516720" y="3429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924360" y="4941720"/>
            <a:ext cx="439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16000" y="141300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87640" y="1125360"/>
            <a:ext cx="504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771640" y="90792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03280" y="476280"/>
            <a:ext cx="7923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932000" y="1125360"/>
            <a:ext cx="180036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932360" y="1341000"/>
            <a:ext cx="3168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1989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492360" y="198900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1628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79280" y="2997360"/>
            <a:ext cx="1297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3213000"/>
            <a:ext cx="3585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1628640"/>
          <a:ext cx="8207280" cy="501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7:58:32Z</dcterms:created>
  <dc:creator>Marius Lifvergren</dc:creator>
  <dc:description/>
  <dc:language>en-US</dc:language>
  <cp:lastModifiedBy>Marius Lifvergren</cp:lastModifiedBy>
  <dcterms:modified xsi:type="dcterms:W3CDTF">2006-09-24T20:09:24Z</dcterms:modified>
  <cp:revision>3</cp:revision>
  <dc:subject/>
  <dc:title>Oppgave C</dc:title>
</cp:coreProperties>
</file>